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APPLAUSE.WAV" ContentType="audio/x-wav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937-9E6F-493B-99FD-6B794867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89D-EBFB-4BED-8DC4-5998AB31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E33-8EBA-4E6A-92FF-25549B29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7BC-473C-4B11-9A91-2C7EA610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B91-E8A0-4704-A9EF-0C1C7B60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35EB-60CA-416E-B959-7E7E024B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F898-178A-4261-B21D-A6AA08F7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4F3-B16D-4F7D-8D83-ED872613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535-B393-44CC-80A7-48B67D92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E99-0F59-4BB1-ACEF-6AC219BC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62D-1BD9-4BED-A4EE-8B6A99CF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B4E-3FD5-462C-B2B6-F130F55B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CA3F-D1CE-4049-A33A-DDD43BA88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762120"/>
            <a:ext cx="50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Who wants to be a Millionair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5029200"/>
            <a:ext cx="1523880" cy="914400"/>
          </a:xfrm>
          <a:custGeom>
            <a:avLst/>
            <a:gdLst>
              <a:gd name="textAreaLeft" fmla="*/ 59040 w 1523880"/>
              <a:gd name="textAreaRight" fmla="*/ 1464840 w 15238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5991" h="21600">
                <a:moveTo>
                  <a:pt x="0" y="0"/>
                </a:moveTo>
                <a:lnTo>
                  <a:pt x="35991" y="0"/>
                </a:lnTo>
                <a:lnTo>
                  <a:pt x="35991" y="21600"/>
                </a:lnTo>
                <a:lnTo>
                  <a:pt x="0" y="21600"/>
                </a:lnTo>
                <a:close/>
              </a:path>
              <a:path fill="lightenLess" w="35991" h="21600">
                <a:moveTo>
                  <a:pt x="0" y="0"/>
                </a:moveTo>
                <a:lnTo>
                  <a:pt x="35991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1" h="21600">
                <a:moveTo>
                  <a:pt x="35991" y="0"/>
                </a:moveTo>
                <a:lnTo>
                  <a:pt x="35991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1" h="21600">
                <a:moveTo>
                  <a:pt x="35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5029200"/>
            <a:ext cx="1524240" cy="914400"/>
          </a:xfrm>
          <a:custGeom>
            <a:avLst/>
            <a:gdLst>
              <a:gd name="textAreaLeft" fmla="*/ 59040 w 1524240"/>
              <a:gd name="textAreaRight" fmla="*/ 1465200 w 15242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05680" y="685800"/>
            <a:ext cx="2482560" cy="5486400"/>
          </a:xfrm>
          <a:prstGeom prst="rect">
            <a:avLst/>
          </a:prstGeom>
          <a:solidFill>
            <a:srgbClr val="3333cc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76212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1 million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11456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500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147492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250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183528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125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19384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64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255420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32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91456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16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27348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8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363384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4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399420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2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435456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1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4713120"/>
            <a:ext cx="241128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4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500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510552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3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543384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2 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2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579276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 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1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90720" y="304920"/>
            <a:ext cx="7010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 for $4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continents are on earth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0720" y="304920"/>
            <a:ext cx="7010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 for $8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what year was Bill gates bo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304920"/>
            <a:ext cx="70102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 for $16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co-wrote “We are the World’ with Michael Jack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o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t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ring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m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90720" y="304920"/>
            <a:ext cx="73152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 for $32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Italian word for a square or marketpl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a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90720" y="304920"/>
            <a:ext cx="73152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 for $64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Sumo Wrestlers throw into the ring before a mat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lc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90720" y="304920"/>
            <a:ext cx="73152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 for 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trained professional uses a theodolite in the course of his or her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g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ve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90720" y="304920"/>
            <a:ext cx="7010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 for $2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obel Peace Prize is given out in what c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sin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s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enh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kho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90720" y="304920"/>
            <a:ext cx="70102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 for $5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re the two official languages of the Olympic mov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rma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nch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al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nish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nch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990720" y="304920"/>
            <a:ext cx="7010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 for $1,0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se planets is the larg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3276720"/>
            <a:ext cx="1752840" cy="99036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24" h="21600">
                <a:moveTo>
                  <a:pt x="0" y="0"/>
                </a:moveTo>
                <a:lnTo>
                  <a:pt x="38224" y="0"/>
                </a:lnTo>
                <a:lnTo>
                  <a:pt x="38224" y="21600"/>
                </a:lnTo>
                <a:lnTo>
                  <a:pt x="0" y="21600"/>
                </a:lnTo>
                <a:close/>
              </a:path>
              <a:path fill="lightenLess" w="38224" h="21600">
                <a:moveTo>
                  <a:pt x="0" y="0"/>
                </a:moveTo>
                <a:lnTo>
                  <a:pt x="38224" y="0"/>
                </a:lnTo>
                <a:lnTo>
                  <a:pt x="36824" y="1400"/>
                </a:lnTo>
                <a:lnTo>
                  <a:pt x="1400" y="1400"/>
                </a:lnTo>
                <a:close/>
              </a:path>
              <a:path fill="darken" w="38224" h="21600">
                <a:moveTo>
                  <a:pt x="38224" y="0"/>
                </a:moveTo>
                <a:lnTo>
                  <a:pt x="38224" y="21600"/>
                </a:lnTo>
                <a:lnTo>
                  <a:pt x="36824" y="20200"/>
                </a:lnTo>
                <a:lnTo>
                  <a:pt x="36824" y="1400"/>
                </a:lnTo>
                <a:close/>
              </a:path>
              <a:path fill="darkenLess" w="38224" h="21600">
                <a:moveTo>
                  <a:pt x="38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24" y="20200"/>
                </a:lnTo>
                <a:close/>
              </a:path>
              <a:path fill="lighten" w="38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905120" y="10666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Work 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have won 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62320" y="5105520"/>
            <a:ext cx="2209680" cy="838080"/>
          </a:xfrm>
          <a:custGeom>
            <a:avLst/>
            <a:gdLst>
              <a:gd name="textAreaLeft" fmla="*/ 54000 w 2209680"/>
              <a:gd name="textAreaRight" fmla="*/ 2155680 w 2209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6935" h="21600">
                <a:moveTo>
                  <a:pt x="0" y="0"/>
                </a:moveTo>
                <a:lnTo>
                  <a:pt x="56935" y="0"/>
                </a:lnTo>
                <a:lnTo>
                  <a:pt x="56935" y="21600"/>
                </a:lnTo>
                <a:lnTo>
                  <a:pt x="0" y="21600"/>
                </a:lnTo>
                <a:close/>
              </a:path>
              <a:path fill="lightenLess" w="56935" h="21600">
                <a:moveTo>
                  <a:pt x="0" y="0"/>
                </a:moveTo>
                <a:lnTo>
                  <a:pt x="56935" y="0"/>
                </a:lnTo>
                <a:lnTo>
                  <a:pt x="55535" y="1400"/>
                </a:lnTo>
                <a:lnTo>
                  <a:pt x="1400" y="1400"/>
                </a:lnTo>
                <a:close/>
              </a:path>
              <a:path fill="darken" w="56935" h="21600">
                <a:moveTo>
                  <a:pt x="56935" y="0"/>
                </a:moveTo>
                <a:lnTo>
                  <a:pt x="56935" y="21600"/>
                </a:lnTo>
                <a:lnTo>
                  <a:pt x="55535" y="20200"/>
                </a:lnTo>
                <a:lnTo>
                  <a:pt x="55535" y="1400"/>
                </a:lnTo>
                <a:close/>
              </a:path>
              <a:path fill="darkenLess" w="56935" h="21600">
                <a:moveTo>
                  <a:pt x="5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35" y="20200"/>
                </a:lnTo>
                <a:close/>
              </a:path>
              <a:path fill="lighten" w="5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57840" y="685800"/>
            <a:ext cx="2482920" cy="5486400"/>
          </a:xfrm>
          <a:prstGeom prst="rect">
            <a:avLst/>
          </a:prstGeom>
          <a:solidFill>
            <a:srgbClr val="3333cc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00680" y="76212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1 million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00680" y="111456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500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00680" y="147492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250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00680" y="183528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125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00680" y="219384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64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00680" y="255420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32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00680" y="291456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16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0680" y="3273480"/>
            <a:ext cx="241128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8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00680" y="363384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4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00680" y="399420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2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00680" y="435456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1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00680" y="471312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4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500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00680" y="507348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3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00680" y="543384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2 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2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00680" y="579276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 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1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>
            <a:hlinkClick r:id="" action="ppaction://hlinkshowjump?jump=firstslide"/>
          </p:cNvPr>
          <p:cNvSpPr/>
          <p:nvPr/>
        </p:nvSpPr>
        <p:spPr>
          <a:xfrm>
            <a:off x="5410080" y="4876920"/>
            <a:ext cx="1981440" cy="914400"/>
          </a:xfrm>
          <a:custGeom>
            <a:avLst/>
            <a:gdLst>
              <a:gd name="textAreaLeft" fmla="*/ 59040 w 1981440"/>
              <a:gd name="textAreaRight" fmla="*/ 1922400 w 19814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 to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838080"/>
            <a:ext cx="5791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dear 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bad luck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n't you try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371600" y="6858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you have elected to use Dial a Friend - which of these friends would you like to c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2438280"/>
            <a:ext cx="2209680" cy="990720"/>
          </a:xfrm>
          <a:custGeom>
            <a:avLst/>
            <a:gdLst>
              <a:gd name="textAreaLeft" fmla="*/ 64080 w 2209680"/>
              <a:gd name="textAreaRight" fmla="*/ 2145600 w 2209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8167" h="21600">
                <a:moveTo>
                  <a:pt x="0" y="0"/>
                </a:moveTo>
                <a:lnTo>
                  <a:pt x="48167" y="0"/>
                </a:lnTo>
                <a:lnTo>
                  <a:pt x="48167" y="21600"/>
                </a:lnTo>
                <a:lnTo>
                  <a:pt x="0" y="21600"/>
                </a:lnTo>
                <a:close/>
              </a:path>
              <a:path fill="lightenLess" w="48167" h="21600">
                <a:moveTo>
                  <a:pt x="0" y="0"/>
                </a:moveTo>
                <a:lnTo>
                  <a:pt x="48167" y="0"/>
                </a:lnTo>
                <a:lnTo>
                  <a:pt x="46767" y="1400"/>
                </a:lnTo>
                <a:lnTo>
                  <a:pt x="1400" y="1400"/>
                </a:lnTo>
                <a:close/>
              </a:path>
              <a:path fill="darken" w="48167" h="21600">
                <a:moveTo>
                  <a:pt x="48167" y="0"/>
                </a:moveTo>
                <a:lnTo>
                  <a:pt x="48167" y="21600"/>
                </a:lnTo>
                <a:lnTo>
                  <a:pt x="46767" y="20200"/>
                </a:lnTo>
                <a:lnTo>
                  <a:pt x="46767" y="1400"/>
                </a:lnTo>
                <a:close/>
              </a:path>
              <a:path fill="darkenLess" w="48167" h="21600">
                <a:moveTo>
                  <a:pt x="48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67" y="20200"/>
                </a:lnTo>
                <a:close/>
              </a:path>
              <a:path fill="lighten" w="48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key 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5029200"/>
            <a:ext cx="2209680" cy="990720"/>
          </a:xfrm>
          <a:custGeom>
            <a:avLst/>
            <a:gdLst>
              <a:gd name="textAreaLeft" fmla="*/ 64080 w 2209680"/>
              <a:gd name="textAreaRight" fmla="*/ 2145600 w 2209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8167" h="21600">
                <a:moveTo>
                  <a:pt x="0" y="0"/>
                </a:moveTo>
                <a:lnTo>
                  <a:pt x="48167" y="0"/>
                </a:lnTo>
                <a:lnTo>
                  <a:pt x="48167" y="21600"/>
                </a:lnTo>
                <a:lnTo>
                  <a:pt x="0" y="21600"/>
                </a:lnTo>
                <a:close/>
              </a:path>
              <a:path fill="lightenLess" w="48167" h="21600">
                <a:moveTo>
                  <a:pt x="0" y="0"/>
                </a:moveTo>
                <a:lnTo>
                  <a:pt x="48167" y="0"/>
                </a:lnTo>
                <a:lnTo>
                  <a:pt x="46767" y="1400"/>
                </a:lnTo>
                <a:lnTo>
                  <a:pt x="1400" y="1400"/>
                </a:lnTo>
                <a:close/>
              </a:path>
              <a:path fill="darken" w="48167" h="21600">
                <a:moveTo>
                  <a:pt x="48167" y="0"/>
                </a:moveTo>
                <a:lnTo>
                  <a:pt x="48167" y="21600"/>
                </a:lnTo>
                <a:lnTo>
                  <a:pt x="46767" y="20200"/>
                </a:lnTo>
                <a:lnTo>
                  <a:pt x="46767" y="1400"/>
                </a:lnTo>
                <a:close/>
              </a:path>
              <a:path fill="darkenLess" w="48167" h="21600">
                <a:moveTo>
                  <a:pt x="48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67" y="20200"/>
                </a:lnTo>
                <a:close/>
              </a:path>
              <a:path fill="lighten" w="48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han Buck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71800" y="3733920"/>
            <a:ext cx="2209680" cy="990360"/>
          </a:xfrm>
          <a:custGeom>
            <a:avLst/>
            <a:gdLst>
              <a:gd name="textAreaLeft" fmla="*/ 64080 w 2209680"/>
              <a:gd name="textAreaRight" fmla="*/ 2145600 w 2209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8184" h="21600">
                <a:moveTo>
                  <a:pt x="0" y="0"/>
                </a:moveTo>
                <a:lnTo>
                  <a:pt x="48184" y="0"/>
                </a:lnTo>
                <a:lnTo>
                  <a:pt x="48184" y="21600"/>
                </a:lnTo>
                <a:lnTo>
                  <a:pt x="0" y="21600"/>
                </a:lnTo>
                <a:close/>
              </a:path>
              <a:path fill="lightenLess" w="48184" h="21600">
                <a:moveTo>
                  <a:pt x="0" y="0"/>
                </a:moveTo>
                <a:lnTo>
                  <a:pt x="48184" y="0"/>
                </a:lnTo>
                <a:lnTo>
                  <a:pt x="46784" y="1400"/>
                </a:lnTo>
                <a:lnTo>
                  <a:pt x="1400" y="1400"/>
                </a:lnTo>
                <a:close/>
              </a:path>
              <a:path fill="darken" w="48184" h="21600">
                <a:moveTo>
                  <a:pt x="48184" y="0"/>
                </a:moveTo>
                <a:lnTo>
                  <a:pt x="48184" y="21600"/>
                </a:lnTo>
                <a:lnTo>
                  <a:pt x="46784" y="20200"/>
                </a:lnTo>
                <a:lnTo>
                  <a:pt x="46784" y="1400"/>
                </a:lnTo>
                <a:close/>
              </a:path>
              <a:path fill="darkenLess" w="48184" h="21600">
                <a:moveTo>
                  <a:pt x="48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84" y="20200"/>
                </a:lnTo>
                <a:close/>
              </a:path>
              <a:path fill="lighten" w="48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Ho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867280" y="49528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85" name="" hidden="1"/>
          <p:cNvSpPr/>
          <p:nvPr/>
        </p:nvSpPr>
        <p:spPr>
          <a:xfrm>
            <a:off x="5079960" y="635040"/>
            <a:ext cx="2540160" cy="2539800"/>
          </a:xfrm>
          <a:custGeom>
            <a:avLst/>
            <a:gdLst>
              <a:gd name="textAreaLeft" fmla="*/ 93960 w 2540160"/>
              <a:gd name="textAreaRight" fmla="*/ 2446200 w 2540160"/>
              <a:gd name="textAreaTop" fmla="*/ 93960 h 2539800"/>
              <a:gd name="textAreaBottom" fmla="*/ 2028600 h 2539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's easy 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sco .. of cours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371600" y="1219320"/>
            <a:ext cx="5715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you have elected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one of your life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 are ready click continue to return to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91320" y="44956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4267080"/>
            <a:ext cx="2057400" cy="838440"/>
          </a:xfrm>
          <a:custGeom>
            <a:avLst/>
            <a:gdLst>
              <a:gd name="textAreaLeft" fmla="*/ 54360 w 2057400"/>
              <a:gd name="textAreaRight" fmla="*/ 2003040 w 2057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2990" h="21600">
                <a:moveTo>
                  <a:pt x="0" y="0"/>
                </a:moveTo>
                <a:lnTo>
                  <a:pt x="52990" y="0"/>
                </a:lnTo>
                <a:lnTo>
                  <a:pt x="52990" y="21600"/>
                </a:lnTo>
                <a:lnTo>
                  <a:pt x="0" y="21600"/>
                </a:lnTo>
                <a:close/>
              </a:path>
              <a:path fill="lightenLess" w="52990" h="21600">
                <a:moveTo>
                  <a:pt x="0" y="0"/>
                </a:moveTo>
                <a:lnTo>
                  <a:pt x="52990" y="0"/>
                </a:lnTo>
                <a:lnTo>
                  <a:pt x="51590" y="1400"/>
                </a:lnTo>
                <a:lnTo>
                  <a:pt x="1400" y="1400"/>
                </a:lnTo>
                <a:close/>
              </a:path>
              <a:path fill="darken" w="52990" h="21600">
                <a:moveTo>
                  <a:pt x="52990" y="0"/>
                </a:moveTo>
                <a:lnTo>
                  <a:pt x="52990" y="21600"/>
                </a:lnTo>
                <a:lnTo>
                  <a:pt x="51590" y="20200"/>
                </a:lnTo>
                <a:lnTo>
                  <a:pt x="51590" y="1400"/>
                </a:lnTo>
                <a:close/>
              </a:path>
              <a:path fill="darkenLess" w="52990" h="21600">
                <a:moveTo>
                  <a:pt x="52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590" y="20200"/>
                </a:lnTo>
                <a:close/>
              </a:path>
              <a:path fill="lighten" w="52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447920" y="144792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GRAT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5120" y="266688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$1,000,00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firstslide"/>
          </p:cNvPr>
          <p:cNvSpPr/>
          <p:nvPr/>
        </p:nvSpPr>
        <p:spPr>
          <a:xfrm>
            <a:off x="5943600" y="533412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2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03640" y="5334120"/>
            <a:ext cx="468360" cy="3045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11640" y="2666880"/>
            <a:ext cx="451080" cy="2971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03880" y="5410080"/>
            <a:ext cx="50184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213680" y="5410080"/>
            <a:ext cx="48240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03640" y="2133720"/>
            <a:ext cx="392040" cy="3504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11640" y="5486400"/>
            <a:ext cx="451080" cy="1522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03880" y="5410080"/>
            <a:ext cx="50184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13680" y="5410080"/>
            <a:ext cx="48240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03640" y="5410080"/>
            <a:ext cx="39204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11640" y="5410080"/>
            <a:ext cx="45108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3880" y="2514600"/>
            <a:ext cx="501840" cy="3124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13680" y="5410080"/>
            <a:ext cx="48240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03640" y="5334120"/>
            <a:ext cx="468360" cy="3045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11640" y="5257800"/>
            <a:ext cx="451080" cy="3808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03880" y="2514600"/>
            <a:ext cx="501840" cy="3124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213680" y="5410080"/>
            <a:ext cx="48240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03640" y="2438280"/>
            <a:ext cx="468360" cy="32004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11640" y="5486400"/>
            <a:ext cx="451080" cy="1522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03880" y="5410080"/>
            <a:ext cx="50184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13680" y="5410080"/>
            <a:ext cx="48240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00200" y="533520"/>
            <a:ext cx="48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Hello s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1219320"/>
            <a:ext cx="5486400" cy="42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lcome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Do You Want To Be A Millionair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 guess you know how to play the ga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ember, at any time, if you are unsure about a question, then you have 3 lifelines that you can choo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5486400" y="5562720"/>
            <a:ext cx="1905120" cy="685800"/>
          </a:xfrm>
          <a:custGeom>
            <a:avLst/>
            <a:gdLst>
              <a:gd name="textAreaLeft" fmla="*/ 44280 w 1905120"/>
              <a:gd name="textAreaRight" fmla="*/ 1860840 w 1905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9984" h="21600">
                <a:moveTo>
                  <a:pt x="0" y="0"/>
                </a:moveTo>
                <a:lnTo>
                  <a:pt x="59984" y="0"/>
                </a:lnTo>
                <a:lnTo>
                  <a:pt x="59984" y="21600"/>
                </a:lnTo>
                <a:lnTo>
                  <a:pt x="0" y="21600"/>
                </a:lnTo>
                <a:close/>
              </a:path>
              <a:path fill="lightenLess" w="59984" h="21600">
                <a:moveTo>
                  <a:pt x="0" y="0"/>
                </a:moveTo>
                <a:lnTo>
                  <a:pt x="59984" y="0"/>
                </a:lnTo>
                <a:lnTo>
                  <a:pt x="58584" y="1400"/>
                </a:lnTo>
                <a:lnTo>
                  <a:pt x="1400" y="1400"/>
                </a:lnTo>
                <a:close/>
              </a:path>
              <a:path fill="darken" w="59984" h="21600">
                <a:moveTo>
                  <a:pt x="59984" y="0"/>
                </a:moveTo>
                <a:lnTo>
                  <a:pt x="59984" y="21600"/>
                </a:lnTo>
                <a:lnTo>
                  <a:pt x="58584" y="20200"/>
                </a:lnTo>
                <a:lnTo>
                  <a:pt x="58584" y="1400"/>
                </a:lnTo>
                <a:close/>
              </a:path>
              <a:path fill="darkenLess" w="59984" h="21600">
                <a:moveTo>
                  <a:pt x="59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84" y="20200"/>
                </a:lnTo>
                <a:close/>
              </a:path>
              <a:path fill="lighten" w="59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03640" y="4267080"/>
            <a:ext cx="468360" cy="1371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11640" y="3429000"/>
            <a:ext cx="451080" cy="2209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203880" y="5410080"/>
            <a:ext cx="50184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13680" y="5410080"/>
            <a:ext cx="48240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03640" y="5410080"/>
            <a:ext cx="46836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11640" y="5334120"/>
            <a:ext cx="451080" cy="3045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203880" y="4114800"/>
            <a:ext cx="501840" cy="15238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13680" y="3352680"/>
            <a:ext cx="482400" cy="228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03640" y="4038480"/>
            <a:ext cx="468360" cy="16002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11640" y="5257800"/>
            <a:ext cx="451080" cy="3808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203880" y="5410080"/>
            <a:ext cx="50184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13680" y="3962520"/>
            <a:ext cx="482400" cy="16761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03640" y="3962520"/>
            <a:ext cx="468360" cy="16761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11640" y="4495680"/>
            <a:ext cx="45108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03880" y="3733920"/>
            <a:ext cx="501840" cy="19047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213680" y="4648320"/>
            <a:ext cx="482400" cy="9903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03640" y="5410080"/>
            <a:ext cx="46836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11640" y="3962520"/>
            <a:ext cx="451080" cy="16761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203880" y="5486400"/>
            <a:ext cx="501840" cy="1522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13680" y="4038480"/>
            <a:ext cx="482400" cy="16002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03640" y="5410080"/>
            <a:ext cx="46836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11640" y="3124080"/>
            <a:ext cx="451080" cy="2514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03880" y="5410080"/>
            <a:ext cx="50184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213680" y="5410080"/>
            <a:ext cx="48240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03640" y="5410080"/>
            <a:ext cx="46836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11640" y="4800600"/>
            <a:ext cx="451080" cy="838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03880" y="3429000"/>
            <a:ext cx="501840" cy="2209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13680" y="2895480"/>
            <a:ext cx="482400" cy="27432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03640" y="4952880"/>
            <a:ext cx="468360" cy="685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11640" y="4800600"/>
            <a:ext cx="451080" cy="838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203880" y="4648320"/>
            <a:ext cx="425520" cy="9903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3680" y="4648320"/>
            <a:ext cx="406440" cy="9903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03640" y="3657600"/>
            <a:ext cx="468360" cy="1981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11640" y="3124080"/>
            <a:ext cx="451080" cy="2514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03880" y="5410080"/>
            <a:ext cx="50184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13680" y="5410080"/>
            <a:ext cx="48240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03640" y="4191120"/>
            <a:ext cx="468360" cy="14475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111640" y="3657600"/>
            <a:ext cx="451080" cy="1981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03880" y="3581280"/>
            <a:ext cx="501840" cy="20574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13680" y="5410080"/>
            <a:ext cx="48240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90720" y="304920"/>
            <a:ext cx="7010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 for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se dogs was famous for coming hom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Rin Tin 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s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243828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2133720" y="2209680"/>
            <a:ext cx="5562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ness - I don't have a c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ould say Bruce Springsteen - but it's only a gu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867280" y="49528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57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133720" y="2209680"/>
            <a:ext cx="556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at's easy 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osco .. of cours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867280" y="49528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52424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304920"/>
            <a:ext cx="70102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 for 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se numbers does not make a whole number when divided by 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90720" y="304920"/>
            <a:ext cx="70102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 for 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something unexpected happens you might say, ‘that’s the way the cookie’ wha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um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90720" y="304920"/>
            <a:ext cx="70102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 for 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ce of which actor appears on his brand of salad dres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l Gib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lv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l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m Cru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304920"/>
            <a:ext cx="7010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 for 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green vegetable is associated with Popey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n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bb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t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ucch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90720" y="304920"/>
            <a:ext cx="70102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 for $2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colour belt do you buy for your outfit when beginning ju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2:01:35Z</dcterms:created>
  <dc:creator>E1000</dc:creator>
  <dc:description/>
  <dc:language>en-US</dc:language>
  <cp:lastModifiedBy>john</cp:lastModifiedBy>
  <cp:lastPrinted>2002-10-31T22:27:04Z</cp:lastPrinted>
  <dcterms:modified xsi:type="dcterms:W3CDTF">2008-05-28T11:21:34Z</dcterms:modified>
  <cp:revision>99</cp:revision>
  <dc:subject/>
  <dc:title>No Slide Title</dc:title>
</cp:coreProperties>
</file>